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659-DA83-46E1-A177-4F7C765A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E25-D25B-4D9F-8574-FDBE6EA9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46E-6B30-431A-97BB-069AC057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90C-1A2C-4B6B-A20E-C50C0387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266-748E-4EAE-AA74-7C0FB5BA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C79-39C7-4257-9D90-09D51D42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16A-CC68-4B82-8016-DE404282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267-7381-4091-9890-87B24C7C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851-5DAD-455A-BBEE-D299610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B4D-07F1-4359-AEE2-B28D4E1B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D3E-EDAC-4EEF-878C-6FE89607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274-7DD0-436A-AEAD-472C3972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5B63-F4AA-4E8C-82DF-EF3C3170E5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oetic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the same or similar consonant sounds, usually at the beginnings of words in close proximity to each other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dove dived to its de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the same vowel sounds, usually in the middle of words in close proximity to each other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he rowed the boat in stony sil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 that sound like the meaning they represent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his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195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bi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naph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xymo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10920" y="1599840"/>
            <a:ext cx="6481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letters ‘s’ or ‘sh’, usually at the beginnings of words in close proximity to each other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oft, scented, silky sa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tition of the same or similar words at the beginning of successive lines or cl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, phrase or idea that re-appears throughout a poem or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uxtaposition of two contradictory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al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n-standard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cal, regional or national variations in speech patterns and words used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bair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ans ‘baby’ in Scot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words or phrases that are slang/not grammatically correct, usually in an informal context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lity/informality of language use depending on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1483920"/>
            <a:ext cx="1881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y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hetorical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erb ten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148428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a minor/small object or idea to represent a more significant concept/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question posed without expecting an answer, usually for emphatic effect or to draw reader into the context and invite agreement or issue with a point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past, present or future verb forms according to context and desired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ation of the opposite idea in order to create tension or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2-05T09:24:17Z</dcterms:modified>
  <cp:revision>50</cp:revision>
  <dc:subject/>
  <dc:title>La Belle Dame Sans Merci</dc:title>
</cp:coreProperties>
</file>